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844-96F2-4BA8-BC52-B54F7378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8D9-1EF0-41DB-83E4-283CE47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57-6A89-40F5-86BC-0FA6B1EC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E83-CBCB-4DD5-A839-0757126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DFC-13B5-43CB-9C79-D816623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3D0-56DB-4591-BDD6-47BDE0E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F8C-5AED-47B6-B129-40A8D8D1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D85-C29F-4BAF-8BFF-E322AA13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BAB-B9F6-40E6-BAE6-E57864F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995-032B-4267-8F11-2D41213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74B-284E-42E6-826C-B57B620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3DF-9EDA-4F87-9083-154FE7F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309-31C5-429D-9A25-4F111520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60948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etas Moder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é Martí, cu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én Dario, nicaragü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09480" y="457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patrias” de J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artí, Cuba, 18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The image “http://www.kulmbach.net/~MGF-Gymnasium/bilderdaten/blumen%201/Bilder/nelke%20carnation%20clavel%20%202_jp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7621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he image “http://www.romanceeverafter.com/images/Victorian_Woman_Mourning_Clothes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62120" y="365760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he image “http://www.galleries.bc.ca/agso/images/nightwin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he image “http://ramsites.net/~craigva/dreamweaver/images/window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5867280" y="1447920"/>
            <a:ext cx="2898720" cy="518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he image “http://www.filosofia.tk/foto/libres/vela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1676520" y="2209680"/>
            <a:ext cx="144756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533520" y="9907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: la libertad y la soberanía individual y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838080"/>
            <a:ext cx="76201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patrias” de José Martí, 1853-18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eta romántico, José Martí fue un precursor del modernismo de Rubén Darí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patrias”, parte de su colecció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os lib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eados en 1882, fue escrito, “no en tinta de la academia, sino en mi propia sangre.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í luchó por la independencia de Cuba, colonia de Esp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ía que Cuba cayera bajo el yugo de un EE.UU. deseoso de la anex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27" descr="http://home.epix.net/~berlyn/Resources/Cuba-Cuban-Flag.jpg"/>
          <p:cNvPicPr/>
          <p:nvPr/>
        </p:nvPicPr>
        <p:blipFill>
          <a:blip r:embed="rId1"/>
          <a:stretch/>
        </p:blipFill>
        <p:spPr>
          <a:xfrm>
            <a:off x="533520" y="1117440"/>
            <a:ext cx="1523880" cy="10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26" descr="http://home.epix.net/~berlyn/Resources/Cuba-Lighthouse-and-Boat.jpg"/>
          <p:cNvPicPr/>
          <p:nvPr/>
        </p:nvPicPr>
        <p:blipFill>
          <a:blip r:embed="rId2"/>
          <a:stretch/>
        </p:blipFill>
        <p:spPr>
          <a:xfrm>
            <a:off x="990720" y="2286000"/>
            <a:ext cx="1752480" cy="1182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31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30" descr="http://www.xentrik.net/freegraphics/photos/flowers/carnation.jpg"/>
          <p:cNvPicPr/>
          <p:nvPr/>
        </p:nvPicPr>
        <p:blipFill>
          <a:blip r:embed="rId3"/>
          <a:stretch/>
        </p:blipFill>
        <p:spPr>
          <a:xfrm>
            <a:off x="1752480" y="3657600"/>
            <a:ext cx="113508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32"/>
          <p:cNvSpPr/>
          <p:nvPr/>
        </p:nvSpPr>
        <p:spPr>
          <a:xfrm>
            <a:off x="0" y="129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sarasteele.com/paintings/sep2001/med/nightwindow.jpg"/>
          <p:cNvPicPr/>
          <p:nvPr/>
        </p:nvPicPr>
        <p:blipFill>
          <a:blip r:embed="rId4"/>
          <a:stretch/>
        </p:blipFill>
        <p:spPr>
          <a:xfrm>
            <a:off x="2286000" y="5029200"/>
            <a:ext cx="1154160" cy="157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33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ágenes del poema “Dos patrias” del cubano José Mart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4"/>
          <p:cNvSpPr/>
          <p:nvPr/>
        </p:nvSpPr>
        <p:spPr>
          <a:xfrm>
            <a:off x="3276720" y="1447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bandera de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5"/>
          <p:cNvSpPr/>
          <p:nvPr/>
        </p:nvSpPr>
        <p:spPr>
          <a:xfrm>
            <a:off x="388620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no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6"/>
          <p:cNvSpPr/>
          <p:nvPr/>
        </p:nvSpPr>
        <p:spPr>
          <a:xfrm>
            <a:off x="4495680" y="3657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lav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7"/>
          <p:cNvSpPr/>
          <p:nvPr/>
        </p:nvSpPr>
        <p:spPr>
          <a:xfrm>
            <a:off x="5181480" y="52578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ventana ab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ío, nicaraguense, fue el padre del modern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rnismo fue un poderoso movimiento renovador en la literatura hispanoamerican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rnismo fue, al principio, una literaturade escape, de aire enrare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fán era lograr la experiencia estética, con conciencia sensual de color y son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3808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sevelt” de R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The image “http://www.nationalwarcollege.org/Images/mementos/roosevelt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334120" y="2362320"/>
            <a:ext cx="350496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he image “http://rarecoins.org/images/Teddy%20Roosevelt%20Color%20Cropped%20with%20Shadow%2096dpi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895480" y="1905120"/>
            <a:ext cx="21942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The image “http://www.cadbury.ie/images/img-chocolate/cocoa3_1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04920" y="236232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The image “http://www.gssafaris.com/images/Lion-Hunter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2895480" y="449568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762120" y="990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 la crítica social y política, b) la libertad y la soberanía individual y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images.google.com/images?q=tbn:v6ZFMv9P1D0J:http://www.kennys.ie/Artists/pickering-mary/Five%2520Young%2520Women.jpg"/>
          <p:cNvPicPr/>
          <p:nvPr/>
        </p:nvPicPr>
        <p:blipFill>
          <a:blip r:embed="rId1"/>
          <a:stretch/>
        </p:blipFill>
        <p:spPr>
          <a:xfrm>
            <a:off x="457200" y="1233360"/>
            <a:ext cx="3657600" cy="439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495680" y="457200"/>
            <a:ext cx="41148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lección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tos de vida y espera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5) fue el producto templado de la madurez de Rubén Dar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la la hondura de su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ene la “Canción de otoño en primavera”, una expresión lírica del tema de carpe di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otoño en primavera” de Rub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http://images.google.com/images?q=tbn:9tJwllaFYGAJ:http://web.ics.purdue.edu/~washingt/graphics/sadman.png"/>
          <p:cNvPicPr/>
          <p:nvPr/>
        </p:nvPicPr>
        <p:blipFill>
          <a:blip r:embed="rId1"/>
          <a:stretch/>
        </p:blipFill>
        <p:spPr>
          <a:xfrm>
            <a:off x="5257800" y="2819520"/>
            <a:ext cx="3505320" cy="34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punchstock.com/image/imagezoo/4700038/large/awe0028.jpg"/>
          <p:cNvPicPr/>
          <p:nvPr/>
        </p:nvPicPr>
        <p:blipFill>
          <a:blip r:embed="rId2"/>
          <a:stretch/>
        </p:blipFill>
        <p:spPr>
          <a:xfrm>
            <a:off x="228600" y="2562120"/>
            <a:ext cx="4648320" cy="4062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80880" y="1219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carpe die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el tiempo y sus mudanzas, b) ganar y perder en el juego del amor; la pasión entre el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5280" y="22860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fatal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ubén Darío, Nicaragua, 1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http://www.arkeologi.uu.se/afr/symposium/abstracts/sanchezimages/Foto%203.%20Piedra%20esculpida.%20San%20Pedro.JPG"/>
          <p:cNvPicPr/>
          <p:nvPr/>
        </p:nvPicPr>
        <p:blipFill>
          <a:blip r:embed="rId1"/>
          <a:stretch/>
        </p:blipFill>
        <p:spPr>
          <a:xfrm>
            <a:off x="2217600" y="3048120"/>
            <a:ext cx="21258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jayadeva.com/tree%20closeup.jpg"/>
          <p:cNvPicPr/>
          <p:nvPr/>
        </p:nvPicPr>
        <p:blipFill>
          <a:blip r:embed="rId2"/>
          <a:stretch/>
        </p:blipFill>
        <p:spPr>
          <a:xfrm>
            <a:off x="228600" y="3352680"/>
            <a:ext cx="1781280" cy="32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www.fotosearch.com/comp/phd/PHD290/SS32016.JPG"/>
          <p:cNvPicPr/>
          <p:nvPr/>
        </p:nvPicPr>
        <p:blipFill>
          <a:blip r:embed="rId3"/>
          <a:stretch/>
        </p:blipFill>
        <p:spPr>
          <a:xfrm>
            <a:off x="449568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09480" y="6858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as: a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ento mor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el tiempo y sus mudanzas,               b) la fe y la razón, la justicia divina y la vida, c) lecciones de la vida y el repudio del error, d) la decadencia del orden establecido y el des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9:46:55Z</dcterms:created>
  <dc:creator>Ruth Ward</dc:creator>
  <dc:description/>
  <dc:language>en-US</dc:language>
  <cp:lastModifiedBy>Mami</cp:lastModifiedBy>
  <dcterms:modified xsi:type="dcterms:W3CDTF">2010-03-31T21:38:08Z</dcterms:modified>
  <cp:revision>132</cp:revision>
  <dc:subject/>
  <dc:title>PowerPoint Presentation</dc:title>
</cp:coreProperties>
</file>